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drumroll.wav" ContentType="audio/x-wav"/>
  <Override PartName="/ppt/media/image6.jpeg" ContentType="image/jpeg"/>
  <Override PartName="/ppt/media/image10.png" ContentType="image/png"/>
  <Override PartName="/ppt/media/applause.wav" ContentType="audio/x-wav"/>
  <Override PartName="/ppt/media/image9.jpeg" ContentType="image/jpeg"/>
  <Override PartName="/ppt/media/image5.png" ContentType="image/png"/>
  <Override PartName="/ppt/media/whoosh.wav" ContentType="audio/x-wav"/>
  <Override PartName="/ppt/media/arrow.wav" ContentType="audio/x-wav"/>
  <Override PartName="/ppt/media/image8.png" ContentType="image/png"/>
  <Override PartName="/ppt/media/hammer.wav" ContentType="audio/x-wav"/>
  <Override PartName="/ppt/media/image1.wmf" ContentType="image/x-wmf"/>
  <Override PartName="/ppt/media/bomb.wav" ContentType="audio/x-wav"/>
  <Override PartName="/ppt/media/wind.wav" ContentType="audio/x-wav"/>
  <Override PartName="/ppt/media/image2.wmf" ContentType="image/x-wmf"/>
  <Override PartName="/ppt/media/type.wav" ContentType="audio/x-wav"/>
  <Override PartName="/ppt/media/image3.wmf" ContentType="image/x-wmf"/>
  <Override PartName="/ppt/media/voltage.wav" ContentType="audio/x-wav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1E6-871F-4686-BEA6-79FE73DF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C28-61A1-44F5-8160-A881A2E1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52A-D2A8-42CC-BA15-346EE5B5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D73-B22A-45C2-B68D-687841D8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DCE2-E957-483C-A202-890E1A89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8195-470D-40CA-BDE0-66A0066F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6231-B102-40C7-899A-342B572F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DCB7-9EF1-49E2-A1D6-64259455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E8C3-2A87-49C1-A66F-9636B840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CE3F-B78E-4441-B686-3EFEB661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13AA-D9EE-41A7-AC6F-B9694112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45F-7052-4374-BA1D-785E955F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0FA4-084C-4E35-87D4-D2E35078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0686-1E46-4DA3-A145-A075A69C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FCDD-46B7-483F-994B-4256D0FD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D718-3B56-4499-84A4-15CCFAAF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074A-3641-4607-9FCC-85D9FF04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98D-B0A0-45AB-9C05-8FB7253E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4D9-D180-4CDC-9030-C1F94F6F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F92-5ABE-4941-9466-399B736A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E97-966F-4848-AC5B-BEDE892F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2F0-1D2F-4522-ADA6-02D5047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986-DE80-42CF-BDA1-3F959843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335-4666-4BF3-9505-7529767D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4208-F98A-4305-BE8F-97A2451A32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A9CB-06A0-4450-B999-7F6DCAA169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bomb.wav" TargetMode="External"/><Relationship Id="rId2" Type="http://schemas.microsoft.com/office/2007/relationships/media" Target="file:///tmp/home/.config/libreoffice/4/user/gallery/bomb.wav" TargetMode="External"/><Relationship Id="rId3" Type="http://schemas.openxmlformats.org/officeDocument/2006/relationships/image" Target="../media/image8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Cody, Nick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 and J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242712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what we found on Alexander Graham Bell. Thank you for watching our show!!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3228840" cy="277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applause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8147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y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 and Alex Yanosick, Cody Z., And Jason He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 invented the telegraph/tele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289872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type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rn and whe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  was born in Edinburgh  March 3, 184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248292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hoosh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 was a teacher of deaf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484360" cy="20365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voltage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’s Fath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’s father was named Alexander Melville Bell. He also taught the deaf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810240" cy="49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lexander Graham Bell was 18 he had been working on a idea of transmitting speech electric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Graham Bell patent for the telephone ( granted in 1876) Became the subject of litiga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296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14800" y="4038480"/>
            <a:ext cx="2427120" cy="178596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3" name="hammer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830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880, France bestowed on Bell the 50,000-franc Volta Prize for his inven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127320" y="616680"/>
            <a:ext cx="184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xander Graham 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hone3"/>
          <p:cNvSpPr/>
          <p:nvPr/>
        </p:nvSpPr>
        <p:spPr>
          <a:xfrm>
            <a:off x="3276720" y="3200400"/>
            <a:ext cx="2743200" cy="2743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85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399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started to work on his invention the tele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hing he Is holding is his tele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2359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8:22:07Z</dcterms:created>
  <dc:creator>Montour School District</dc:creator>
  <dc:description/>
  <dc:language>en-US</dc:language>
  <cp:lastModifiedBy>Montour School District</cp:lastModifiedBy>
  <dcterms:modified xsi:type="dcterms:W3CDTF">2008-05-22T13:48:58Z</dcterms:modified>
  <cp:revision>10</cp:revision>
  <dc:subject/>
  <dc:title>Alexander Graham Bell</dc:title>
</cp:coreProperties>
</file>